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-36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1960" y="703440"/>
            <a:ext cx="4692600" cy="35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9136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913600"/>
            <a:ext cx="3067200" cy="46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8C6C32A-DF2F-479F-B692-331204AB5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BA8FB03-F49E-4B1B-B06C-45508E7E0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E0D65A1-1241-4BB3-B2B4-5BB05A665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C30632D-4D26-4A68-9EA8-11BE6FF42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552F03A-C7C5-4830-AAD5-D256ED094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4B1B7F2-E9BA-4961-B7F7-0C6F8A4AE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56A335-1BCA-48EB-BB67-18C574313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8A6C2E-89C0-4F8F-92B7-EEC009FB2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81F36F-91A3-47C1-8CE1-6A945C2CF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E2D4401-AC48-4448-9B73-B3F1FBC6E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E0FA70B-408D-4074-B800-56F1CA6EF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57A3744-AE38-451B-8324-D7B23780A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44329B6-3E46-4B75-A885-57C234269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F6A097C-21F9-4B83-BF90-41409A1CB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BB6F74D-24B9-41E9-9658-2B1F54D3A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1CB2289-4A56-43A7-9F6D-EAEDB3BC8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982DB43-BD4A-4A18-AEEF-B4CBDD4D5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48EDEC8-8B82-4ED9-93FB-6CD468040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B2C0E4C-C72A-4786-B93B-9A04A47E8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8EE80C6-4222-4F6A-9319-B1C48BEAE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AB3CBB8-4826-4F22-A7A6-BDE3782BF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0E9345A-DC34-461C-9CDA-5BA833D43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B006EF6-66D9-4878-9E45-BD6219DF9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E49BE74-A12E-4928-B420-25BABB571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F51FDF-D182-468C-B089-4C024844B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99A76B9-726D-48E0-8CA8-A71B59EBA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EC37638-3465-464A-BCF4-371DCD42B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89D92D7-EA88-4C16-8051-C5FD61DF1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8381A7C-A10B-4D45-A9E5-00C1AE761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F6D654A-2727-4E46-ABEA-023627E93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2651148-B8D3-402A-9E82-8AE13F73B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39A3232-3B07-4251-B1B7-8BE7CFC70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304796E-E7A6-480D-B174-0C6F12840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42BAA67-E245-4D9C-88DC-E6096BD59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FD47FDA-3972-4F59-98DC-366814041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1422C50-772A-4DAC-ADC1-6420C1EA0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8419B68-A906-4ACB-AC67-1D05AB127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6D6042-D629-4427-AEEB-D07184EE1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4CEF542-D1A1-49F7-B2DA-7E818978F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01270AF-84B9-40ED-A7E7-8CC3E6570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47A52A8-BD93-42C7-A5EE-33C1D8C29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1B97634-2641-4A50-A1AC-A524C370A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2E8AFB4-BB94-46E1-A709-1DE8275B4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DBFDF92-FC2B-4B06-95F8-332D08AC5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34E9E01-312C-4446-AB5B-63812FEDB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D2D0F44-01E3-4AA7-B788-D7A86C86B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3A825A1-8BD1-40A4-A8BE-3A488FEDB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1F3D83-DDDD-40B3-A4E9-990431066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979F1AF-972D-4646-AC5D-6AE8FDE6B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245E98E-DD83-48E3-BAEB-61DDCE73E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66BE714-A793-4593-8F47-803F9DA42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BDDBD67-6994-4CA7-8339-DE311AB82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26869EA-60DE-4A50-9C45-A3E85F06F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8107BE9-7BB2-40AE-A2DE-256219CB6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82B6D92-CAFC-464F-8772-0581A39C8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879A12B-950C-4823-BE05-9B32244F1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9383BB4-D86E-4BFB-985F-8B934DA84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0D5156C-D264-4525-8852-2EFA593AA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D664B88-9460-4294-B9D9-FE041C305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31DDFAF-4293-46D1-AD7D-C261AD7F6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120A4D7-134B-4F40-995B-7210CEBD6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936B5ED-3C5E-4E51-A4E2-980CEA0C5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2791AC5-D40A-4B78-93DC-E9D4D007E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3EC736F-2BCF-439A-8C38-7F9D0B660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97D9C2F-6F43-4958-B4ED-32C5B4C3A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8E94394-71CD-4D18-836D-CC1C5FB8E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10040" y="8913960"/>
            <a:ext cx="30672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7E7843C-742A-4078-BF45-BC297A10A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9232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2840" y="4457520"/>
            <a:ext cx="519120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8CF-D45C-4B2F-89D6-51BC32DC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F9E-1D17-4634-BA91-08BEFA15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971D-B73E-44BD-9F81-374D2D40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5CB-6BEB-43E6-A5FD-CA3A3D79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E50-0BC1-4523-93F8-F446B79F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DF6-5697-43D3-BC0A-547ACE32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7EC-D9D4-4657-B285-1E869CE2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10E-5D18-45AE-8CB4-3D9F3E47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4EA-7E40-48D0-8F31-822B5B5D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C51-4B07-495C-AFC1-CA94D4E8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63B-E442-40EF-9310-A6F97F60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620-3FF6-416C-ADE9-440C202D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271C-1720-46D6-B904-F6E77E7D5277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6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24.xml"/><Relationship Id="rId13" Type="http://schemas.openxmlformats.org/officeDocument/2006/relationships/slide" Target="slide34.xml"/><Relationship Id="rId14" Type="http://schemas.openxmlformats.org/officeDocument/2006/relationships/slide" Target="slide44.xml"/><Relationship Id="rId15" Type="http://schemas.openxmlformats.org/officeDocument/2006/relationships/slide" Target="slide53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56.xm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2.xml"/><Relationship Id="rId24" Type="http://schemas.openxmlformats.org/officeDocument/2006/relationships/slide" Target="slide28.xml"/><Relationship Id="rId25" Type="http://schemas.openxmlformats.org/officeDocument/2006/relationships/slide" Target="slide38.xml"/><Relationship Id="rId26" Type="http://schemas.openxmlformats.org/officeDocument/2006/relationships/slide" Target="slide48.xml"/><Relationship Id="rId27" Type="http://schemas.openxmlformats.org/officeDocument/2006/relationships/slide" Target="slide58.xml"/><Relationship Id="rId28" Type="http://schemas.openxmlformats.org/officeDocument/2006/relationships/slide" Target="slide30.xml"/><Relationship Id="rId29" Type="http://schemas.openxmlformats.org/officeDocument/2006/relationships/slide" Target="slide40.xml"/><Relationship Id="rId30" Type="http://schemas.openxmlformats.org/officeDocument/2006/relationships/slide" Target="slide50.xml"/><Relationship Id="rId31" Type="http://schemas.openxmlformats.org/officeDocument/2006/relationships/slide" Target="slide60.xml"/><Relationship Id="rId32" Type="http://schemas.openxmlformats.org/officeDocument/2006/relationships/slide" Target="slide32.xml"/><Relationship Id="rId33" Type="http://schemas.openxmlformats.org/officeDocument/2006/relationships/slide" Target="slide42.xml"/><Relationship Id="rId34" Type="http://schemas.openxmlformats.org/officeDocument/2006/relationships/slide" Target="slide52.xml"/><Relationship Id="rId35" Type="http://schemas.openxmlformats.org/officeDocument/2006/relationships/slide" Target="slide62.xml"/><Relationship Id="rId36" Type="http://schemas.openxmlformats.org/officeDocument/2006/relationships/slide" Target="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Jeopardy.wa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is what we call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a story that 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cannot be real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85800" y="1523880"/>
            <a:ext cx="7848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make-believe or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fantasy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5800" y="152388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09480" y="1447920"/>
            <a:ext cx="7848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is is what you may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find at the end of a book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at will give you the 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meaning of words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0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What is a glossary?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09480" y="1447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762120" y="914400"/>
            <a:ext cx="71913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The answer to an addition problem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2057400"/>
            <a:ext cx="7924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33520" y="205740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the sum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85800" y="685800"/>
            <a:ext cx="7696080" cy="40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9933"/>
                </a:solidFill>
                <a:latin typeface="Times New Roman"/>
              </a:rPr>
              <a:t>A graph that uses pictures to represent information.</a:t>
            </a:r>
            <a:endParaRPr b="1" lang="en-US" sz="5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 pictograph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" y="190512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8380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is number has 5 tens and 4 ones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981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54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33520" y="838080"/>
            <a:ext cx="8001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 answer to a subtraction problem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6002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differenc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04920" y="838080"/>
            <a:ext cx="80769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9933"/>
                </a:solidFill>
                <a:latin typeface="Times New Roman"/>
              </a:rPr>
              <a:t>2, 4, 6, 8, and 10 are examples of these.</a:t>
            </a:r>
            <a:endParaRPr b="1" lang="en-US" sz="5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33520" y="19051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even number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09480" y="762120"/>
            <a:ext cx="7925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 state that you live in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17524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Illinoi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33520" y="609480"/>
            <a:ext cx="8001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A place where people live, work, and play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09480" y="13716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ommunit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533520" y="1447920"/>
            <a:ext cx="7924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The country that you live in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09480" y="1447920"/>
            <a:ext cx="792504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the United States of America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3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Read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4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Math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6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Potpourri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7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cience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28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Writing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33"/>
                </a:solidFill>
                <a:latin typeface="Times New Roman"/>
              </a:rPr>
              <a:t>&amp; Stuff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6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37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38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10 Point</a:t>
            </a: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39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0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1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2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3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4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5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46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47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48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49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0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1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52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9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4" name="AutoShape 53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0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AutoShape 54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1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AutoShape 55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2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AutoShape 56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3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AutoShape 57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4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9" name="AutoShape 58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35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AutoShape 60">
            <a:hlinkClick r:id="rId36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ocial 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33"/>
                </a:solidFill>
                <a:latin typeface="Times New Roman"/>
              </a:rPr>
              <a:t>Studies</a:t>
            </a:r>
            <a:endParaRPr b="1" lang="en-US" sz="2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57200" y="60948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When you read a map, you use these to understand what the symbols mean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33520" y="17524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ap ke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57200" y="609480"/>
            <a:ext cx="8077320" cy="24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9933"/>
                </a:solidFill>
                <a:latin typeface="Times New Roman"/>
              </a:rPr>
              <a:t>Some things that you might see here are tractors, fields, and barns.</a:t>
            </a: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17524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farming communit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>
            <a:hlinkClick r:id="" action="ppaction://hlinkshowjump?jump=nextslide"/>
          </p:cNvPr>
          <p:cNvSpPr/>
          <p:nvPr/>
        </p:nvSpPr>
        <p:spPr>
          <a:xfrm>
            <a:off x="0" y="-1522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09480" y="1447920"/>
            <a:ext cx="7848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Mrs. Loftus’s favorite word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4479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Arial"/>
              </a:rPr>
              <a:t>What is “please”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57200" y="9144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e answer to this question is 7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57200" y="1600200"/>
            <a:ext cx="784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9933"/>
                </a:solidFill>
                <a:latin typeface="Times New Roman"/>
              </a:rPr>
              <a:t>What is how many days are there in one week?</a:t>
            </a:r>
            <a:endParaRPr b="1" lang="en-US" sz="5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762120"/>
            <a:ext cx="76201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ff9933"/>
                </a:solidFill>
                <a:latin typeface="Times New Roman"/>
              </a:rPr>
              <a:t>The first day of the week.</a:t>
            </a:r>
            <a:endParaRPr b="1" lang="en-US" sz="5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62120" y="12952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unda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85800" y="10666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person wrote the story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33520" y="19810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e number of months in one year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>
            <a:hlinkClick r:id="rId1" action="ppaction://hlinksldjump"/>
          </p:cNvPr>
          <p:cNvSpPr/>
          <p:nvPr/>
        </p:nvSpPr>
        <p:spPr>
          <a:xfrm>
            <a:off x="0" y="30492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12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457200" y="990720"/>
            <a:ext cx="79246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9933"/>
                </a:solidFill>
                <a:latin typeface="Times New Roman"/>
              </a:rPr>
              <a:t>This holiday celebrates a famous African American who fought for equal treatment of all people.</a:t>
            </a:r>
            <a:endParaRPr b="1" lang="en-US" sz="5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09480" y="160020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Martin Luther King Jr.’s birthday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You will find cactus and sand and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very little water here.</a:t>
            </a:r>
            <a:endParaRPr b="1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8580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desert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533520" y="609480"/>
            <a:ext cx="80769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9933"/>
                </a:solidFill>
                <a:latin typeface="Times New Roman"/>
              </a:rPr>
              <a:t>These animals have live babies and feed their babies milk.</a:t>
            </a:r>
            <a:endParaRPr b="1" lang="en-US" sz="49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533520" y="137160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mammal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85800" y="990720"/>
            <a:ext cx="78487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9933"/>
                </a:solidFill>
                <a:latin typeface="Times New Roman"/>
              </a:rPr>
              <a:t>Winter, Spring, Summer,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9933"/>
                </a:solidFill>
                <a:latin typeface="Times New Roman"/>
              </a:rPr>
              <a:t>and Fall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85800" y="1600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the 4 seas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n author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2133720"/>
            <a:ext cx="7543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09480" y="1371600"/>
            <a:ext cx="7848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Fruits, vegetables, protein, breads, and fats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13716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the five food group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33520" y="762120"/>
            <a:ext cx="7772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9933"/>
                </a:solidFill>
                <a:latin typeface="Times New Roman"/>
              </a:rPr>
              <a:t>This is a measurement of how hot or cold it is outside?</a:t>
            </a:r>
            <a:endParaRPr b="1" lang="en-US" sz="3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09480" y="1295280"/>
            <a:ext cx="792504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9933"/>
                </a:solidFill>
                <a:latin typeface="Times New Roman"/>
              </a:rPr>
              <a:t>What is the temperature?</a:t>
            </a:r>
            <a:endParaRPr b="1" lang="en-US" sz="47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These show that someone 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ff9933"/>
                </a:solidFill>
                <a:latin typeface="Times New Roman"/>
              </a:rPr>
              <a:t>is speaking.</a:t>
            </a:r>
            <a:endParaRPr b="1" lang="en-US" sz="53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09480" y="12952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quotation mark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685800" y="990720"/>
            <a:ext cx="75438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9933"/>
                </a:solidFill>
                <a:latin typeface="Times New Roman"/>
              </a:rPr>
              <a:t>You need this at the beginning of every sentence.</a:t>
            </a:r>
            <a:endParaRPr b="1" lang="en-US" sz="5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62120" y="1752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capital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09480" y="1447920"/>
            <a:ext cx="7772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People, places, animals, and things 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609480" y="1447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 noun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1600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994320" y="1600200"/>
            <a:ext cx="706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This person drew the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pictures in the story.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685800" y="1447920"/>
            <a:ext cx="7620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These are made up of two words.</a:t>
            </a:r>
            <a:endParaRPr b="1" lang="en-US" sz="4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62120" y="1447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contraction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09480" y="18288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You may write these to friends and family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09480" y="1828800"/>
            <a:ext cx="8077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9933"/>
                </a:solidFill>
                <a:latin typeface="Times New Roman"/>
              </a:rPr>
              <a:t>What are letters?</a:t>
            </a:r>
            <a:endParaRPr b="1" lang="en-US" sz="56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2">
            <a:hlinkClick r:id="rId1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914400"/>
            <a:ext cx="7848720" cy="36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9933"/>
                </a:solidFill>
                <a:latin typeface="Times New Roman"/>
              </a:rPr>
              <a:t>These are created to make sure that everyone is safe and treated fairly.</a:t>
            </a: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1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20000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685800" y="137160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rules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1600200"/>
            <a:ext cx="74674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What is an illustrator?</a:t>
            </a: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AutoShape 3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is is what the 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story is all about.</a:t>
            </a:r>
            <a:endParaRPr b="1" lang="en-US" sz="5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85800" y="1828800"/>
            <a:ext cx="746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18288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main idea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Loftus</cp:lastModifiedBy>
  <dcterms:modified xsi:type="dcterms:W3CDTF">2010-01-30T21:57:26Z</dcterms:modified>
  <cp:revision>134</cp:revision>
  <dc:subject/>
  <dc:title>No Slide Title</dc:title>
</cp:coreProperties>
</file>