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FFE662-940C-45D1-A318-BEC91E1E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1B2062-7F42-4788-AFCB-D23724BF0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D061F5-3B9B-437F-A19F-27E9B19B2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29F0F2-00C8-4338-AAD3-3CFD1267D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6812FC-C1BB-4D4C-8FA9-E46FF0EE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3FFD0F-B713-445A-9E02-BCACB44A7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AFCADE-B7F1-4338-AF05-1FD6E8100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1599F1-8E80-4980-AFE4-F67914E49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9313D7-66B2-4A4D-A575-F1215F64A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9345D3-D9B0-4A0B-9C79-B6EFBA745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33315E1-34D9-40AC-A294-E7C1E9E4A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8B2CC3-3D87-4BF8-A6EF-D53043B7B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15ACDAD-CE66-4680-B800-90A3C711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251755-3065-4BFF-9E80-9B40EE55D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546008-7BA1-4F45-AED9-31BAEB342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766C46B-F9E9-4AA6-865F-27B65DC87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D899AA-51AF-49B2-8876-E3D7EF2EF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3C174B-74CF-41AB-99F7-EE31377D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BB8189-34D3-473B-A628-BAF9281C3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780126-568C-49BC-8D5F-5BF3B0364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E7F7E7-DDEA-47C3-A96F-9F543255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6CDDE4-2506-46F0-B0D7-9D4136F8A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C9C39DF-B7A4-4EA6-8800-89A074F90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AD9645-FBA7-448E-872C-B7342445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046196-20D3-4157-999E-CEBC72B0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C7FAE8-8CD0-4EA1-9B3C-3FCA757B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B00C6E-AFEB-4C84-AC92-66CF7E02C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2FA5532-56FF-4AB7-B561-5C317C414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585726-5C36-4A98-B20B-FFA2765E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18EF5C-C291-4D98-8822-BB24841A9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AE53B1A-7623-4B84-8D85-F804A821F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A6BAC7-3180-4E64-8574-76D74A0A8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DF3F3C6-D91D-413B-8777-BBA3B1681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B66F8D-A851-4D67-A965-05FC9D55D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001319-BC8A-4AB5-912C-1A7588F8C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D72C356-EB83-4290-A689-D581A06E3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D51FB2-A2B9-4207-82EE-FE0C4B943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4E1235-13A0-4A42-8FD5-79FC14C89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10ED1A-BDD6-4E07-BA73-E6A78E6F8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710438-EDB6-4AC2-BFFE-C0842ED2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8E5AF9B-3727-4413-BFCC-844CE2164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07F6DA-22B8-4987-A783-B1A267F0A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9456D8-7A4E-4E99-8A91-0DE88E678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68E2EC5-66B9-4DF1-9057-0A4C3ADF1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5936038-08E8-46A8-BBB1-1C7EA1BFB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E9EB9CD-A3FB-46E8-8691-466732D4B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472C94-E190-4E0D-81C0-30A90E0E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C48D99-CD6D-4F4E-BEA2-037809843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CB28064-C1FA-4030-ABF1-0A05E6916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F683CF-3121-4D4D-9A7B-7668F0D6B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24AC7E-B684-4EFF-BF6D-07E735E8F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FB7604-0FA3-4765-B8F3-709128E48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53D81F-9F1F-4657-93E3-9088D6DC8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95233B-2FF8-4AE0-9A1B-E65863DCE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6D805F-00B1-4FEE-AD4D-786324C4F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511F65-4D6C-4073-ABB5-4BDF6DBCD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CDCB7A-391B-4C87-BD91-E52B08848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7532A6-2FD3-4700-BBD5-26C5DE9A2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42C528-B6DC-49DD-AB14-AD81F649E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58C7E7-D846-4B29-8C17-1BA45FB2C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D451CEC-A9CC-4760-A903-7D933C1B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826409-9E42-4615-8CCB-12A2243B3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43EFCF-2E95-4D8D-ACD1-D595C365B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07C700-1CF0-4E9E-A21E-D6D1DA6E2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3DD277-E280-4399-B7C3-F519AE6A1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97A755-2D82-47C2-A3CB-2B267DAC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8441FB-149D-472E-BE8D-53003AAD7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822-A90C-4F5B-B133-CC09EFF5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071-E036-4170-9CF0-4DBD44C8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A68-5E6A-47A8-8FAE-2FCD8506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E12-31DB-4D58-9788-B956733B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31C-FBAC-4CE7-B29F-65BB5E31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327-6DBA-4697-8C0B-23948769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D13-A5D0-4E74-80EC-BB77006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F8C-7A8F-4F81-8AAE-262ED57B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340-E5A4-4282-B337-17D8A829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D11-25B8-4523-8DE9-AB852B4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8F1-A89A-45EF-95F1-EEBB2683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542-7CE3-4809-B005-3796C4CB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71B6-5882-4E8A-9096-8585A5A10F56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44.xml"/><Relationship Id="rId15" Type="http://schemas.openxmlformats.org/officeDocument/2006/relationships/slide" Target="slide53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30.xml"/><Relationship Id="rId29" Type="http://schemas.openxmlformats.org/officeDocument/2006/relationships/slide" Target="slide40.xml"/><Relationship Id="rId30" Type="http://schemas.openxmlformats.org/officeDocument/2006/relationships/slide" Target="slide50.xml"/><Relationship Id="rId31" Type="http://schemas.openxmlformats.org/officeDocument/2006/relationships/slide" Target="slide60.xml"/><Relationship Id="rId32" Type="http://schemas.openxmlformats.org/officeDocument/2006/relationships/slide" Target="slide32.xml"/><Relationship Id="rId33" Type="http://schemas.openxmlformats.org/officeDocument/2006/relationships/slide" Target="slide42.xml"/><Relationship Id="rId34" Type="http://schemas.openxmlformats.org/officeDocument/2006/relationships/slide" Target="slide52.xml"/><Relationship Id="rId35" Type="http://schemas.openxmlformats.org/officeDocument/2006/relationships/slide" Target="slide62.xml"/><Relationship Id="rId36" Type="http://schemas.openxmlformats.org/officeDocument/2006/relationships/slide" Target="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is what we call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a story that 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cannot be real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152388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make-believe or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fantasy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152388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9480" y="1447920"/>
            <a:ext cx="7848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you may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find at the end of a book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at will give you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meaning of words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is a glossa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09480" y="1447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762120" y="914400"/>
            <a:ext cx="7191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 answer to an addition problem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2057400"/>
            <a:ext cx="7924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3520" y="20574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sum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685800"/>
            <a:ext cx="769608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9933"/>
                </a:solidFill>
                <a:latin typeface="Times New Roman"/>
              </a:rPr>
              <a:t>A graph that uses pictures to represent information.</a:t>
            </a: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 pictograph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1905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838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number has 5 tens and 4 on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838080"/>
            <a:ext cx="8001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answer to a subtraction problem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if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838080"/>
            <a:ext cx="8076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9933"/>
                </a:solidFill>
                <a:latin typeface="Times New Roman"/>
              </a:rPr>
              <a:t>2, 4, 6, 8, and 10 are examples of these.</a:t>
            </a:r>
            <a:endParaRPr b="1" lang="en-US" sz="5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even numb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762120"/>
            <a:ext cx="7925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state that you live in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llino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609480"/>
            <a:ext cx="8001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A place where people live, work, and play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3520" y="1447920"/>
            <a:ext cx="7924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country that you live in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9250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United States of America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otpourri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Writ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Times New Roman"/>
              </a:rPr>
              <a:t>&amp; Stuff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ocial 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tudie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57200" y="6094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en you read a map, you use these to understand what the symbols mean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p ke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609480"/>
            <a:ext cx="807732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Some things that you might see here are tractors, fields, and barns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farming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" action="ppaction://hlinkshowjump?jump=nextslide"/>
          </p:cNvPr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447920"/>
            <a:ext cx="7848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Mrs. Loftus’s favorite word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Arial"/>
              </a:rPr>
              <a:t>What is “please”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914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answer to this question is 7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1600200"/>
            <a:ext cx="78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What is how many days are there in one week?</a:t>
            </a:r>
            <a:endParaRPr b="1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762120"/>
            <a:ext cx="7620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first day of the week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62120" y="12952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un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5800" y="10666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wrote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9810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e number of months in one year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57200" y="99072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9933"/>
                </a:solidFill>
                <a:latin typeface="Times New Roman"/>
              </a:rPr>
              <a:t>This holiday celebrates a famous African American who fought for equal treatment of all people.</a:t>
            </a:r>
            <a:endParaRPr b="1" lang="en-US" sz="5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artin Luther King Jr.’s birth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You will find cactus and sand and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ery little water here.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eser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609480"/>
            <a:ext cx="8076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se animals have live babies and feed their babies milk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3716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mammal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990720"/>
            <a:ext cx="78487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inter, Spring, Summer,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9933"/>
                </a:solidFill>
                <a:latin typeface="Times New Roman"/>
              </a:rPr>
              <a:t>and Fall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4 seas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auth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2133720"/>
            <a:ext cx="754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1371600"/>
            <a:ext cx="784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Fruits, vegetables, protein, breads, and fats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five food group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762120"/>
            <a:ext cx="7772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Times New Roman"/>
              </a:rPr>
              <a:t>This is a measurement of how hot or cold it is outside?</a:t>
            </a:r>
            <a:endParaRPr b="1" lang="en-US" sz="3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1295280"/>
            <a:ext cx="79250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hat is the temperature?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These show that someone 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is speaking.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quotation mark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85800" y="990720"/>
            <a:ext cx="7543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You need this at the beginning of every sentence.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pital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144792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People, places, animals, and things 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600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4320" y="1600200"/>
            <a:ext cx="706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drew the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pictures in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620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se are made up of two words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2120" y="1447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tra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18288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may write these to friends and famil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1828800"/>
            <a:ext cx="8077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What are letters?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914400"/>
            <a:ext cx="7848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These are created to make sure that everyone is safe and treated fairly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0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u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600200"/>
            <a:ext cx="7467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illustrat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story is all about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1828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in ide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oftus</cp:lastModifiedBy>
  <dcterms:modified xsi:type="dcterms:W3CDTF">2010-01-30T21:57:26Z</dcterms:modified>
  <cp:revision>134</cp:revision>
  <dc:subject/>
  <dc:title>No Slide Title</dc:title>
</cp:coreProperties>
</file>