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C909DDA-2B60-4DF0-A341-B239C58DF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5DE561-062E-4A84-9F0E-D677C516E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7181838-F784-4FBF-ADAD-CC3AAD15F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4A233E9-C0DC-4A6E-ABA0-6A816D7B0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D8B865-C378-4E78-A559-E43F42166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5CC9247-3620-415C-A5EA-179CD767D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EBEEE3-448B-41D8-A5BC-ADA821657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EB88C23-01F2-4C46-BB32-2A1FFDA5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54944E-DEA2-4B26-ACCA-D7C845133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A379839-896C-4C92-952E-A357E0002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B92C86-FF0D-4B80-83EB-AF0450C1F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9D381EC-B1E9-4EE3-81A3-294097E12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015A17-23F4-4205-95F6-81D66884F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AA9209D-EBAA-4C2D-996E-91C4E38C2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F0F42AB-EF98-4392-8012-B9E146163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024DC4B-F4AE-4885-8815-B63166F98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90756D1-611C-421A-85B5-37B065318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2CD835-A54E-4BC4-8B05-3D95118E4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31C595-DBCC-4B00-B623-62569A3D7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49F38C1-A8B4-48B1-9EE5-38303FC9E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D90889A-5C35-410D-8503-D12760FA6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F65FC5F-9C7B-4504-8AD5-A4F16756B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B2EA95-8A4E-4BAA-97CC-A769CB64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ABF1C13-BB60-4809-93DE-13531C95A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42202A5-327B-4A9E-9D2F-263ED547A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2BF48A3-5AD9-4320-8073-169763BDE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233A692-35F0-4524-8B68-BF9FA248D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EA64D24-D906-40D1-AA56-8C6D6CB90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52DF30-7345-4C80-8259-9795DAE01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37C9438-4EB7-46FE-A4B8-747D75D0B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F108FA-7FF9-435E-8AAB-924687BCC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96512F1-D9AA-4FF4-A510-3D15722B5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8C93A4-4EA8-437D-B3C4-1566B2A34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3A4C3DD-3940-48CD-9225-F5FD6D4A2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89CB317-0D1C-47A8-9D5D-D8C377A50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EE1A75-A091-40A5-B006-21C6841FB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7E6C97E-21D3-479C-B480-25E0FAB94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2F85D4F-227F-42B8-8632-7302C137B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837E586-27FB-4560-AFEE-FCAAEA8A6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CD1C6DB-C9B5-49BC-83E4-0911BFA07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556B63A-8D66-4FB5-B35F-0750D2205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0FAD69C-739F-4A02-BA0C-88D435247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30DB71D-4CBB-4352-A95A-DDBE69E63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61E9E9-E5FE-41FC-9703-29EA57FA0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A638D9E-A552-4A12-9C82-ACB24F109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723EFD7-145B-49AE-B776-26EF7700A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4A01EE5-B140-417E-A2EA-ADFA97BA1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93FCF87-C63C-4E8A-BE3D-1E13A3880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8E131F-B7D9-4804-965F-1416ED7DD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692B6C-23E8-415A-9AF7-F3C65AD59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CACE285-8F10-429A-B2C6-F9EFC487C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71AFCF2-D700-4095-8689-F251E1D1E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66E4F1B-90DE-4D22-A2BA-91E3EF97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32B7A5D-E3BD-49E1-8C64-0458C80C8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67B6AD2-2016-49A3-84B2-A1E52AAD0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58B41D0-CE05-4D00-A769-27CA0F1AA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32A2327-FB0F-45BA-8846-9FBB745DA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F689B1C-2D99-44AB-A981-A60C486FE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C63054D-257E-499A-B68F-C73545944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40F0CF-4360-44EA-958E-B9DFEAFEB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8413DC7-DDF7-4468-9EE7-182645DCB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6BC414A-D95E-4C24-BD4C-523B5524C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91CEA7A-CB75-4F73-8A9A-73F97C72E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342503-34E2-4E22-8A61-29F68FFC4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03F6F2-3E82-40C9-BDE1-CE860DD87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20E447D-59F5-4385-85AE-CF5BC6669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362C90-C747-4741-AEAE-546F4DBEB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CB3-2549-4563-AC27-6CA65B65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E1FD-3AB9-4513-9761-D4F6F624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AEB-1A9B-42FA-A970-20FA3F7B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4EA5-2F8B-4408-92B5-F375A1A7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5CF-7AE0-4E5F-A502-97AC9A57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69DC-FE17-44CE-A5BB-8EBD1B3F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067-1515-428B-9AAD-E1F9E20E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534-C21A-494F-8D91-A1D1F8E3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4DE-A975-46D3-95E4-189CA465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C29A-3D5C-4635-A9FA-11CA7C6A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AB1-3A6B-4C32-A8A7-0705C094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896-2805-4B4B-95F6-470D37BA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3D93-DEEA-4C87-88B6-26A4ACB85CD9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6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24.xml"/><Relationship Id="rId13" Type="http://schemas.openxmlformats.org/officeDocument/2006/relationships/slide" Target="slide34.xml"/><Relationship Id="rId14" Type="http://schemas.openxmlformats.org/officeDocument/2006/relationships/slide" Target="slide44.xml"/><Relationship Id="rId15" Type="http://schemas.openxmlformats.org/officeDocument/2006/relationships/slide" Target="slide53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38.xml"/><Relationship Id="rId26" Type="http://schemas.openxmlformats.org/officeDocument/2006/relationships/slide" Target="slide48.xml"/><Relationship Id="rId27" Type="http://schemas.openxmlformats.org/officeDocument/2006/relationships/slide" Target="slide58.xml"/><Relationship Id="rId28" Type="http://schemas.openxmlformats.org/officeDocument/2006/relationships/slide" Target="slide30.xml"/><Relationship Id="rId29" Type="http://schemas.openxmlformats.org/officeDocument/2006/relationships/slide" Target="slide40.xml"/><Relationship Id="rId30" Type="http://schemas.openxmlformats.org/officeDocument/2006/relationships/slide" Target="slide50.xml"/><Relationship Id="rId31" Type="http://schemas.openxmlformats.org/officeDocument/2006/relationships/slide" Target="slide60.xml"/><Relationship Id="rId32" Type="http://schemas.openxmlformats.org/officeDocument/2006/relationships/slide" Target="slide32.xml"/><Relationship Id="rId33" Type="http://schemas.openxmlformats.org/officeDocument/2006/relationships/slide" Target="slide42.xml"/><Relationship Id="rId34" Type="http://schemas.openxmlformats.org/officeDocument/2006/relationships/slide" Target="slide52.xml"/><Relationship Id="rId35" Type="http://schemas.openxmlformats.org/officeDocument/2006/relationships/slide" Target="slide62.xml"/><Relationship Id="rId36" Type="http://schemas.openxmlformats.org/officeDocument/2006/relationships/slide" Target="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is what we call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a story that 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cannot be real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1523880"/>
            <a:ext cx="78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make-believe or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fantasy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152388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09480" y="1447920"/>
            <a:ext cx="7848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you may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find at the end of a book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at will give you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meaning of words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is a glossary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09480" y="1447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762120" y="914400"/>
            <a:ext cx="7191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 answer to an addition problem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2057400"/>
            <a:ext cx="7924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3520" y="20574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sum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685800"/>
            <a:ext cx="769608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9933"/>
                </a:solidFill>
                <a:latin typeface="Times New Roman"/>
              </a:rPr>
              <a:t>A graph that uses pictures to represent information.</a:t>
            </a: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 pictograph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1905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838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number has 5 tens and 4 on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54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3520" y="838080"/>
            <a:ext cx="8001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answer to a subtraction problem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6002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if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838080"/>
            <a:ext cx="80769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9933"/>
                </a:solidFill>
                <a:latin typeface="Times New Roman"/>
              </a:rPr>
              <a:t>2, 4, 6, 8, and 10 are examples of these.</a:t>
            </a:r>
            <a:endParaRPr b="1" lang="en-US" sz="5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even number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09480" y="762120"/>
            <a:ext cx="7925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state that you live in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llino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3520" y="609480"/>
            <a:ext cx="8001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A place where people live, work, and play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09480" y="1371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3520" y="1447920"/>
            <a:ext cx="7924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country that you live in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92504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United States of America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3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4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6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otpourri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7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8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Writ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Times New Roman"/>
              </a:rPr>
              <a:t>&amp; Stuff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8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39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0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1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2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3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4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5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6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48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49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0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1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2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3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0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54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1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AutoShape 55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2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AutoShape 56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AutoShape 57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4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AutoShape 58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5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AutoShape 60">
            <a:hlinkClick r:id="rId3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ocial 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tudie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57200" y="6094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en you read a map, you use these to understand what the symbols mean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p ke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609480"/>
            <a:ext cx="807732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Some things that you might see here are tractors, fields, and barns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farming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" action="ppaction://hlinkshowjump?jump=nextslide"/>
          </p:cNvPr>
          <p:cNvSpPr/>
          <p:nvPr/>
        </p:nvSpPr>
        <p:spPr>
          <a:xfrm>
            <a:off x="0" y="-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447920"/>
            <a:ext cx="7848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Mrs. Loftus’s favorite word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Arial"/>
              </a:rPr>
              <a:t>What is “please”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914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answer to this question is 7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7200" y="1600200"/>
            <a:ext cx="784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What is how many days are there in one week?</a:t>
            </a:r>
            <a:endParaRPr b="1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762120"/>
            <a:ext cx="7620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first day of the week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62120" y="12952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un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5800" y="10666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wrote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3520" y="19810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e number of months in one year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2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57200" y="990720"/>
            <a:ext cx="7924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9933"/>
                </a:solidFill>
                <a:latin typeface="Times New Roman"/>
              </a:rPr>
              <a:t>This holiday celebrates a famous African American who fought for equal treatment of all people.</a:t>
            </a:r>
            <a:endParaRPr b="1" lang="en-US" sz="5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0020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Martin Luther King Jr.’s birth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You will find cactus and sand and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ery little water here.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eser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3520" y="609480"/>
            <a:ext cx="80769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se animals have live babies and feed their babies milk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3716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mammal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990720"/>
            <a:ext cx="78487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inter, Spring, Summer,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9933"/>
                </a:solidFill>
                <a:latin typeface="Times New Roman"/>
              </a:rPr>
              <a:t>and Fall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4 seas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auth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2133720"/>
            <a:ext cx="754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1371600"/>
            <a:ext cx="784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Fruits, vegetables, protein, breads, and fats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five food group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762120"/>
            <a:ext cx="7772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33"/>
                </a:solidFill>
                <a:latin typeface="Times New Roman"/>
              </a:rPr>
              <a:t>This is a measurement of how hot or cold it is outside?</a:t>
            </a:r>
            <a:endParaRPr b="1" lang="en-US" sz="3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1295280"/>
            <a:ext cx="79250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hat is the temperature?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These show that someone 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is speaking.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quotation mark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85800" y="990720"/>
            <a:ext cx="75438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You need this at the beginning of every sentence.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pital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144792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People, places, animals, and things 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600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4320" y="1600200"/>
            <a:ext cx="706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drew the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pictures in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1447920"/>
            <a:ext cx="7620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se are made up of two words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2120" y="1447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tra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18288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may write these to friends and famil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1828800"/>
            <a:ext cx="8077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What are letters?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2">
            <a:hlinkClick r:id="rId1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914400"/>
            <a:ext cx="7848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These are created to make sure that everyone is safe and treated fairly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0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u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600200"/>
            <a:ext cx="74674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illustrat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story is all about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1828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in ide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oftus</cp:lastModifiedBy>
  <dcterms:modified xsi:type="dcterms:W3CDTF">2010-01-30T21:57:26Z</dcterms:modified>
  <cp:revision>134</cp:revision>
  <dc:subject/>
  <dc:title>No Slide Title</dc:title>
</cp:coreProperties>
</file>