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36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9136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CC7059-0EE5-4190-BE65-F0875ACEC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36507A9-4875-4F8C-91AC-6F2A5D4A3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9496AA-0B49-4893-A42D-DC7BD85F8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91D1EA-AE67-47CF-80FF-79786E2E1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B9DF29C-1577-4C86-8D45-F97FBAB7B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BFC7D3-9F3F-4AD8-B5ED-F1A6B832B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308E7E-A405-4FAC-BBDC-0B053BE7F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2C83C6-D571-488E-BFD3-05623D6E5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9638BA-EB79-4EE9-81D3-840733D7B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190F129-13BB-48C7-9696-F2AF998EF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28E4243-F6EB-41C9-8AB6-BF4D99ECC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BDB3ED0-091C-4F3B-B71A-E45CB042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B34E6E-412C-464A-9D84-EEE35A2AD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182E6A-3B08-4E93-A5F6-CD808FC26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894B1F-0C26-4B30-B860-3BE1EB7E5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71BA37-A879-4AF9-B06F-FD330D510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C57D93-0EA0-4FE3-9BC0-C27AB3FD0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8744A62-8EBF-454A-B488-3A32E453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EAC6DB-94F9-45E1-9474-C4FC0414A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C952D9B-54A1-43A0-B9D4-27FFA84FB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B40738-06A9-4A4D-97F9-3D9516598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22FCD22-F814-4C2F-911C-285DFA0AB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8C89A4-9406-4D2E-90F6-F636A1569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95BB69-19A5-4752-A3C2-A7316F890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3249D7-2CEC-47AF-A286-79B93FA94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0AFDD5-0756-4B69-B7D6-6DFC3912F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D0E1A90-39B0-4E11-9BC6-3B426952E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14155F-F7B6-4A95-837D-142A77CE9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9F2740C-FA54-49E8-8A61-E34FD8849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238BBFF-2CE9-4C87-9987-F47CB0D6E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F403D7A-07C6-4D5A-9306-844060617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03D9F66-945B-4C58-8A42-8889CE489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FA1DB6B-ED61-4261-B5A4-E4DF40AEB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E02171-9DF8-4636-8028-8D5DBC304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5F8B0D7-5475-4856-87C9-1AA23F80D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27175D5-19CF-43E1-9F9A-F2A8A48A3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57E629-9559-4285-9E91-A164866BE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DEE6DC5-446E-4EB8-A6D2-65365019D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50B8A75-0009-4E76-8070-9C2B4C1B5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119F5E-4D7F-416A-B0DA-89FE5FC84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FBF432-BEC4-4A60-8BFE-01D6A764F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B23BDFB-7F8F-403E-A4C8-43BB7D802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DE2DBD-B269-4CC0-90C8-243487D7F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46B656A-6771-4937-9270-84698BDA2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3D898D-5BD6-47DD-8593-33BA978C1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755D32-2906-4CB5-97FE-1E9626548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1530835-E377-461F-BA71-6265AECB9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7E39521-52D6-4192-909B-884528B48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F39C0E-0542-43D6-BC26-8D887AE8A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18ABCD-F9F6-4213-A139-E343E82D5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B7058E3-B450-46CC-B62C-419718F2F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B5DB88E-002A-4FF5-BFF9-3A10B1FAE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2AAEFCC-4F78-4A6E-A6FC-BE3EC1001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47C067A-2EF9-4E64-8C53-993CEC063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6DEE3B-974C-48D7-8182-6970AFAA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D56FDFD-89AE-40B2-8DB9-9E54BD1A9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CB53DBA-5881-4550-81A0-DBF3988BA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D8E526A-60A4-401D-B1CD-A66395826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36AE6D-F433-4F1C-A21F-AB9F85E6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3EEA30-4BC6-4CCD-8E54-847958AE5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0EBF5C-50A1-43FD-BAC7-2F1E9798C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77ECB6-294A-44B7-8C5D-8806FC813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C61E12-34A6-4192-95B5-A603D484A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3B4A79-E47F-43A2-B280-3994CEBD5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0BD4852-DF47-4F00-B0C7-C3B2F9CA7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6870275-C6C8-43A2-92F8-A78E907A5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098C6B-6CBD-4666-B05F-8F108DC24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701-2FDA-4AFF-92A2-FB95E724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8D1-0EFF-4D62-BB5C-D63B4822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976-1E6B-4595-BDA7-47EA5894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6A3-982D-452C-AC07-D38BCC93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ECF-A9C8-48BD-B94A-E2B74A5A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F88-4E7D-4280-8713-B90E81CC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404-7FBD-466F-9F81-4103B72D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F9C-D63A-43BB-9516-F1167D29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DC3-B1C4-4024-9291-121189DA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A29-EC00-4748-8A94-D45B1B84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5C0-D372-4DF2-A964-6D4B588E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E32-340D-499D-A92E-F7923A10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5704-4AF5-48B2-BE61-37BF4339FF41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6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24.xml"/><Relationship Id="rId13" Type="http://schemas.openxmlformats.org/officeDocument/2006/relationships/slide" Target="slide34.xml"/><Relationship Id="rId14" Type="http://schemas.openxmlformats.org/officeDocument/2006/relationships/slide" Target="slide44.xml"/><Relationship Id="rId15" Type="http://schemas.openxmlformats.org/officeDocument/2006/relationships/slide" Target="slide53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38.xml"/><Relationship Id="rId26" Type="http://schemas.openxmlformats.org/officeDocument/2006/relationships/slide" Target="slide48.xml"/><Relationship Id="rId27" Type="http://schemas.openxmlformats.org/officeDocument/2006/relationships/slide" Target="slide58.xml"/><Relationship Id="rId28" Type="http://schemas.openxmlformats.org/officeDocument/2006/relationships/slide" Target="slide30.xml"/><Relationship Id="rId29" Type="http://schemas.openxmlformats.org/officeDocument/2006/relationships/slide" Target="slide40.xml"/><Relationship Id="rId30" Type="http://schemas.openxmlformats.org/officeDocument/2006/relationships/slide" Target="slide50.xml"/><Relationship Id="rId31" Type="http://schemas.openxmlformats.org/officeDocument/2006/relationships/slide" Target="slide60.xml"/><Relationship Id="rId32" Type="http://schemas.openxmlformats.org/officeDocument/2006/relationships/slide" Target="slide32.xml"/><Relationship Id="rId33" Type="http://schemas.openxmlformats.org/officeDocument/2006/relationships/slide" Target="slide42.xml"/><Relationship Id="rId34" Type="http://schemas.openxmlformats.org/officeDocument/2006/relationships/slide" Target="slide52.xml"/><Relationship Id="rId35" Type="http://schemas.openxmlformats.org/officeDocument/2006/relationships/slide" Target="slide62.xml"/><Relationship Id="rId36" Type="http://schemas.openxmlformats.org/officeDocument/2006/relationships/slide" Target="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is what we call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a story that 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cannot be real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1523880"/>
            <a:ext cx="78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make-believe or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fantasy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152388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09480" y="1447920"/>
            <a:ext cx="7848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is what you may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find at the end of a book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at will give you the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meaning of words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is a glossary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09480" y="1447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762120" y="914400"/>
            <a:ext cx="7191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The answer to an addition problem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2057400"/>
            <a:ext cx="7924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3520" y="20574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the sum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685800"/>
            <a:ext cx="769608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9933"/>
                </a:solidFill>
                <a:latin typeface="Times New Roman"/>
              </a:rPr>
              <a:t>A graph that uses pictures to represent information.</a:t>
            </a:r>
            <a:endParaRPr b="1" lang="en-US" sz="5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 pictograph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1905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838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number has 5 tens and 4 on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54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3520" y="838080"/>
            <a:ext cx="8001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 answer to a subtraction problem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6002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differen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838080"/>
            <a:ext cx="80769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9933"/>
                </a:solidFill>
                <a:latin typeface="Times New Roman"/>
              </a:rPr>
              <a:t>2, 4, 6, 8, and 10 are examples of these.</a:t>
            </a:r>
            <a:endParaRPr b="1" lang="en-US" sz="5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33520" y="19051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even number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09480" y="762120"/>
            <a:ext cx="7925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 state that you live in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llinoi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3520" y="609480"/>
            <a:ext cx="8001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A place where people live, work, and play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09480" y="13716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ommunit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3520" y="1447920"/>
            <a:ext cx="7924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The country that you live in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92504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the United States of America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3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ead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4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ath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6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otpourri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7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cience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8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Writ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Times New Roman"/>
              </a:rPr>
              <a:t>&amp; Stuff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8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39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0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1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2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3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4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5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6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7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48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49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0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1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2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3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0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54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1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AutoShape 55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2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AutoShape 56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AutoShape 57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4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AutoShape 58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5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AutoShape 60">
            <a:hlinkClick r:id="rId36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ocial 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tudie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57200" y="6094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en you read a map, you use these to understand what the symbols mean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ap ke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609480"/>
            <a:ext cx="807732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9933"/>
                </a:solidFill>
                <a:latin typeface="Times New Roman"/>
              </a:rPr>
              <a:t>Some things that you might see here are tractors, fields, and barns.</a:t>
            </a: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farming communit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" action="ppaction://hlinkshowjump?jump=nextslide"/>
          </p:cNvPr>
          <p:cNvSpPr/>
          <p:nvPr/>
        </p:nvSpPr>
        <p:spPr>
          <a:xfrm>
            <a:off x="0" y="-1522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1447920"/>
            <a:ext cx="7848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Mrs. Loftus’s favorite word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Arial"/>
              </a:rPr>
              <a:t>What is “please”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914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 answer to this question is 7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7200" y="1600200"/>
            <a:ext cx="784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What is how many days are there in one week?</a:t>
            </a:r>
            <a:endParaRPr b="1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762120"/>
            <a:ext cx="7620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The first day of the week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62120" y="12952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unda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85800" y="10666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erson wrote the stor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3520" y="19810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e number of months in one year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12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57200" y="990720"/>
            <a:ext cx="7924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9933"/>
                </a:solidFill>
                <a:latin typeface="Times New Roman"/>
              </a:rPr>
              <a:t>This holiday celebrates a famous African American who fought for equal treatment of all people.</a:t>
            </a:r>
            <a:endParaRPr b="1" lang="en-US" sz="5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160020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Martin Luther King Jr.’s birthda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You will find cactus and sand and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ery little water here.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deser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3520" y="609480"/>
            <a:ext cx="80769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These animals have live babies and feed their babies milk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37160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mammal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990720"/>
            <a:ext cx="78487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9933"/>
                </a:solidFill>
                <a:latin typeface="Times New Roman"/>
              </a:rPr>
              <a:t>Winter, Spring, Summer,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9933"/>
                </a:solidFill>
                <a:latin typeface="Times New Roman"/>
              </a:rPr>
              <a:t>and Fall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5800" y="1600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4 seas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n author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2133720"/>
            <a:ext cx="754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1371600"/>
            <a:ext cx="784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Fruits, vegetables, protein, breads, and fats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1371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five food group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762120"/>
            <a:ext cx="7772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33"/>
                </a:solidFill>
                <a:latin typeface="Times New Roman"/>
              </a:rPr>
              <a:t>This is a measurement of how hot or cold it is outside?</a:t>
            </a:r>
            <a:endParaRPr b="1" lang="en-US" sz="3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1295280"/>
            <a:ext cx="79250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9933"/>
                </a:solidFill>
                <a:latin typeface="Times New Roman"/>
              </a:rPr>
              <a:t>What is the temperature?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These show that someone 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is speaking.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09480" y="12952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quotation mark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85800" y="990720"/>
            <a:ext cx="75438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You need this at the beginning of every sentence.</a:t>
            </a:r>
            <a:endParaRPr b="1" lang="en-US" sz="5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apital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9480" y="144792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People, places, animals, and things 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o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600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4320" y="1600200"/>
            <a:ext cx="706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erson drew the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pictures in the stor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85800" y="1447920"/>
            <a:ext cx="7620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se are made up of two words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2120" y="1447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trac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18288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ou may write these to friends and famil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1828800"/>
            <a:ext cx="8077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What are letters?</a:t>
            </a:r>
            <a:endParaRPr b="1" lang="en-US" sz="5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2">
            <a:hlinkClick r:id="rId1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914400"/>
            <a:ext cx="7848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9933"/>
                </a:solidFill>
                <a:latin typeface="Times New Roman"/>
              </a:rPr>
              <a:t>These are created to make sure that everyone is safe and treated fairly.</a:t>
            </a: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000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85800" y="13716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rul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600200"/>
            <a:ext cx="74674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n illustrator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is what the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story is all about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5800" y="18288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ain ide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oftus</cp:lastModifiedBy>
  <dcterms:modified xsi:type="dcterms:W3CDTF">2010-01-30T21:57:26Z</dcterms:modified>
  <cp:revision>134</cp:revision>
  <dc:subject/>
  <dc:title>No Slide Title</dc:title>
</cp:coreProperties>
</file>