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55DF3F4-532D-4E07-89A4-4AD337896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0FA6FC-3C1F-4DC0-9E39-90F3AD1EB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290FC14-B4B0-43CE-8B6C-D722AAF20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79274CA-4FDB-40DA-B84F-52F419FE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ED5F6A-2FE0-4776-8B84-B85D4F97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DA447FD-8471-43DD-B435-612322BEE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6724EF-0A88-4455-8D65-ECB0C8BDC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DBC1F5-3CC1-44CF-9B51-649C3121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5B31E4-772D-43C9-8609-25BEBCD4E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47F78C-18EA-4F2D-93E7-DAC22A87C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1ABC52-225F-458C-A21A-7400A1AA6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8156BE-32B9-43A8-A236-948419B3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D034A7-C5A4-46D5-8C3D-3944103B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1DC63A-A8EF-4E94-B8F3-78C9A1F06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AA02393-A529-4509-B894-5999806A1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50C6A1-3A8A-4792-9407-794BA1237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27FAE6-A669-48F0-B50B-91139C4C9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596C82-82B0-472E-85F0-EC6E58E1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A862F4-5051-4EFB-A1DF-412621B0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3A0DF3-845A-44CB-897B-A813F305D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3C436C-6E1F-4117-AAE9-55F3E8091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F180560-9EFE-4599-8A8F-68EDA869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B7A362-4EFA-4132-B9D9-7CD70D599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705337-D78B-4E26-85AF-3A9D975CE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197B07-B2C4-47BB-A5DF-B975BB2D7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6F87A0-72FF-4091-9A7D-273EC0CD8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13E818-205E-4F21-A8CA-1E7F9530D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2AED5B-F9CB-4DB3-B0F0-283BCAC6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D30AF0-BE1A-46E3-A6DD-A8A1D9ACF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B42C8E-FBCC-40BA-86EB-43CD48B92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D5C8DF9-E06E-4310-8F89-FBEE8BFE9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A4EBE69-1A3B-4485-B4CB-313C34A3C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4C1E8B-A089-4051-8DC9-6F6A830C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02424A3-6D23-4ACA-B8EB-117EC5E09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D5239B-DD78-47C8-92C8-FFD12D199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6F38CF-84E8-4370-9CDE-0C34A9C8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73426C-77A4-436A-AD2F-797456F1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BDDB276-24A1-4021-8A26-3BA098D72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ACE00F9-6264-4193-B094-39BA0C5DB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11AAA6-F522-471F-BBA8-A366421F1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3BE689-5526-46E4-ACFC-306BC0200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1D245A-3B7E-44E7-A289-C023F4102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7A75C84-B68A-42B4-B257-14FB18C16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279011-D3E9-42EA-A965-7CB18510D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7284C4-8FA6-4B47-A622-921ECB88B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92285BE-C629-4182-9DBA-4C5535690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A6C7F49-528D-4068-B2AB-51A2C1D8E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8AC6B1-976B-42E6-87A2-9B167791A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6AD021-8742-428D-91E8-50A5D57FE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31D8B3-87C9-416A-8DA2-148D3E0B0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08890D-B6E4-47ED-B9C3-292ACCD1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43F98FC-79CD-4378-BD39-ABEA7644C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F2AF41-F3E2-479E-A0F5-FAF2FBAF3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CC255FC-1E76-4400-948A-66D1FDF44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D23174-CCA0-4565-9B94-612AD9D58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84DE79-F3BE-4191-855A-C1B21AF9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66C997A-61D1-485C-B618-F986E2C6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543D426-B7C4-4C3F-9923-0EB314EB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60FC104-C8B5-4F75-AE06-AB9690393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35D0385-2826-4858-A0AB-D24A90C75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32110D-30D4-41D7-8F08-4580B88C6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E5D67B-DE02-4A86-82DA-989DA7B0C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554C4DF-E0A1-4782-9071-B168252D7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722947-A806-46A1-9CC5-60ADBE8D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59A569-D902-4EA3-90B1-28BB616B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0921613-683C-445B-895C-B6D673D97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EFC5041-B82B-4390-879C-8FC68E026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3AEB-A897-4861-B675-9A101D31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ECF0-1376-4E51-AFDF-47A7ECA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5D4-0FEB-4E9A-B43A-45BD3AC5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CAF-B34D-4E18-B79C-2DA4A699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1334-125E-41E8-A004-45456A4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F75-557D-406E-9EE6-3EFC81BD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96A-A8A2-44BE-A40E-3C8FD79F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3C0-17FA-4BCA-9365-3524CF83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02E-8F96-4F04-B065-46A0AB15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E027-EB22-4304-A153-19D086CF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528-C64C-4ECB-93C6-184D31A4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D05-593B-44F6-82E9-B30E67EB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9D4-A446-41E4-9881-983D457D4ED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is what we call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a story that 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cannot be real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5238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make-believe or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fantasy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52388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you may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ind at the end of a book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at will give you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meaning of words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is a glossa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62120" y="914400"/>
            <a:ext cx="7191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 answer to an addition problem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2057400"/>
            <a:ext cx="792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0574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sum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685800"/>
            <a:ext cx="7696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Times New Roman"/>
              </a:rPr>
              <a:t>A graph that uses pictures to represent information.</a:t>
            </a: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 pictograph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05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838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number has 5 tens and 4 on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8380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answer to a subtraction problem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if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838080"/>
            <a:ext cx="8076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9933"/>
                </a:solidFill>
                <a:latin typeface="Times New Roman"/>
              </a:rPr>
              <a:t>2, 4, 6, 8, and 10 are examples of these.</a:t>
            </a:r>
            <a:endParaRPr b="1" lang="en-US" sz="5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even numb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762120"/>
            <a:ext cx="7925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state that you live in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llino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609480"/>
            <a:ext cx="800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A place where people live, work, and play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3520" y="1447920"/>
            <a:ext cx="7924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country that you live in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9250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United States of America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ri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&amp; Stuff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ocial 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tudi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6094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ou read a map, you use these to understand what the symbols mean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p ke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609480"/>
            <a:ext cx="807732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Some things that you might see here are tractors, fields, and barns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arming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447920"/>
            <a:ext cx="7848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Mrs. Loftus’s favorite word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What is “please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914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answer to this question is 7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60020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What is how many days are there in one week?</a:t>
            </a:r>
            <a:endParaRPr b="1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76212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first day of the week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2952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un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5800" y="10666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wrote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e number of months in one year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99072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9933"/>
                </a:solidFill>
                <a:latin typeface="Times New Roman"/>
              </a:rPr>
              <a:t>This holiday celebrates a famous African American who fought for equal treatment of all people.</a:t>
            </a:r>
            <a:endParaRPr b="1" lang="en-US" sz="5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rtin Luther King Jr.’s birth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ou will find cactus and sand a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ery little water here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eser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8076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se animals have live babies and feed their babies milk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amma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990720"/>
            <a:ext cx="7848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inter, Spring, Summer,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9933"/>
                </a:solidFill>
                <a:latin typeface="Times New Roman"/>
              </a:rPr>
              <a:t>and Fall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4 seas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auth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13372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1371600"/>
            <a:ext cx="784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Fruits, vegetables, protein, breads, and fats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five food group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76212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Times New Roman"/>
              </a:rPr>
              <a:t>This is a measurement of how hot or cold it is outside?</a:t>
            </a:r>
            <a:endParaRPr b="1" lang="en-US" sz="3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295280"/>
            <a:ext cx="7925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hat is the temperature?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These show that someone 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is speaking.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quotation mark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990720"/>
            <a:ext cx="7543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You need this at the beginning of every sentence.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pita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People, places, animals, and things 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4320" y="1600200"/>
            <a:ext cx="706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drew the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pictures in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se are made up of two words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tra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may write these to friends and famil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828800"/>
            <a:ext cx="807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What are letters?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91440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These are created to make sure that everyone is safe and treated fairly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002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illustrat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story is all about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1828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in ide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ftus</cp:lastModifiedBy>
  <dcterms:modified xsi:type="dcterms:W3CDTF">2010-01-30T21:57:26Z</dcterms:modified>
  <cp:revision>134</cp:revision>
  <dc:subject/>
  <dc:title>No Slide Title</dc:title>
</cp:coreProperties>
</file>