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004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136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0040" y="89136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5074D5A-3F62-420E-9AD1-1FDADBB0C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4BF3A2D-9AC6-491F-AA1B-051227AF9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52F9A71-F845-4605-8283-9846140CE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631EC09-4819-4479-9690-B924C7BF1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4AF7739-E690-43D7-9326-1101250CA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F0B002D-E153-49A7-A284-0406D2ED6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CF02EB2-6316-43C3-B378-0C2D1B846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28A4791-42E6-4322-B5A7-FD94D3F1A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EAEEC42-211C-451E-A81B-1384B45C5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6E64D00-9626-479A-9C2A-61849F5B8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CA31F68-C434-47B8-AE1C-CA99B1629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953421A-1C20-4BC2-85D5-F855AC833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448DF0C-BF27-423A-89CC-8DC83ED67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A0F00A3-076D-4921-9649-21660C778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6FB8E7C-C819-4E80-8C53-1DCEEB902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A1E1808-41F3-4044-A43C-ADAC9C580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CE65573-F52F-404E-9BAC-6FDA0B186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49B7732-3BE8-4E09-8E39-BE05DCA03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93D0A49-105E-4C9B-89DF-64DE25DD5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1097F59-BBC9-407B-8678-4CE2C2366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FF51B65-18C5-4E4B-B851-1A7872E8F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6D6177C-B150-4DAD-92D2-EE5D6D762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59F60FE-FAAB-40F2-9299-343082451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8719306-A766-4E36-9560-0D476C1DB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25F8593-A858-4E43-90F7-C39AFC589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F511E48-A972-446D-A87C-7F8CC3C48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65F653A-D169-448F-AC9A-1B08320D8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99DDDA0-6B89-4E5C-B3B8-967F532FD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5AF2D3E-D096-40FA-9DE3-B56858C5B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D4ABF2E-1B9A-48E1-83E7-88C11F0E1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5890215-CD3F-4D36-A4CA-84A111134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12CAB3E-A95A-419C-BBB4-FC622472E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85E5FCA-8072-4DB8-95AF-7C55504FB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C278432-C8EB-40F4-9D8C-9F2BFB721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B59A162-B69C-4BD5-8A82-0291CDB8A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CC620B3-FE21-4526-AF7E-A01ABCF4F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C45D8DD-4468-4BF3-B0C1-34D8D2D20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DC90D5E-B949-401F-9F86-C5BFF5B88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F2FA6F7-8A33-4B26-A66D-5FCC2A0FE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A51E221-83CC-464F-8942-5A1C79C55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5426C55-56B4-4EA2-87CC-C3749535B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3826C42-52DE-429B-B119-AEF4AE66B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6CCAA5B-B04C-446E-8B6F-8E720D69B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83A6050-721B-4737-89BF-FCC139EBE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B492545-61F0-4991-90B9-F4F3F584F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0BA8F4B-B9D0-48F2-9615-E82B03B29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BB8B7D3-D9CD-4659-A89D-23E99D135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C96E69E-B982-4C3C-B9D9-8A153267A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099FF70-609F-4B55-9EDF-A3B11548B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271916B-B10A-420F-9AAA-F4B629053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04056B3-3EF6-4CF0-928A-84D64DA06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B61D3CA-2EC5-4D0A-8244-1DD5AB13A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16548FD-F0E6-4A12-89D7-4DB4E8E51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F7381C3-5F44-4354-80DF-CA923B8E0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B46E530-C248-44C6-9F5A-5EA7EE06C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A71A3C5-799F-4B24-96AA-00BAA2D5B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537D5A6-1D0D-418D-9A85-1F9671FFD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DE6CCAA-3D2F-4FD3-ACD3-A2D251C32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F0C6AAD-44AC-44C3-8FBE-FF15C6182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0C53FA8-1282-4EAD-A8DD-7A8D91C5B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EB38757-0FA0-4C5F-B6CE-FC2021E0D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C04B3AF-5BEF-4336-A458-3FA2D5C07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8F50D2F-CD81-4DDD-AB2C-486D65A45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72623B7-4B74-4BC3-B8D5-6E148579B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6AA6CB5-D753-4EE6-A92B-64D89CEA9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3C5E966-FD2B-4190-AB93-F983A7F8A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9621E0A-E2AE-43FA-A6F8-1BE06B738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BD17-BCB7-423D-8C9C-ABAC02A2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008-9C36-4FD7-8146-E1D5919E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9D6-1E9A-4BB9-B20C-B0F954BE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CF0-0A6A-4A06-B3E6-A8F45032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CE7-0EA7-417B-BA83-F0C999B1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BAA-0CEA-417B-A01F-0A289CA7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B27-F872-44AB-96E2-91A44449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3D1-0A54-4A57-9C17-F2E79946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A5B-02F5-4461-BBDC-C06A7306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9409-5AD0-4BF0-A3A6-9E5B7A3C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A29-ACA8-4541-8DCA-7C7DEB16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DB4-8F9D-429F-938C-24C36E15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0678-4D17-482B-B7EB-FE837C708BAA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6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24.xml"/><Relationship Id="rId13" Type="http://schemas.openxmlformats.org/officeDocument/2006/relationships/slide" Target="slide34.xml"/><Relationship Id="rId14" Type="http://schemas.openxmlformats.org/officeDocument/2006/relationships/slide" Target="slide44.xml"/><Relationship Id="rId15" Type="http://schemas.openxmlformats.org/officeDocument/2006/relationships/slide" Target="slide53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56.xml"/><Relationship Id="rId21" Type="http://schemas.openxmlformats.org/officeDocument/2006/relationships/slide" Target="slide18.xml"/><Relationship Id="rId22" Type="http://schemas.openxmlformats.org/officeDocument/2006/relationships/slide" Target="slide20.xml"/><Relationship Id="rId23" Type="http://schemas.openxmlformats.org/officeDocument/2006/relationships/slide" Target="slide22.xml"/><Relationship Id="rId24" Type="http://schemas.openxmlformats.org/officeDocument/2006/relationships/slide" Target="slide28.xml"/><Relationship Id="rId25" Type="http://schemas.openxmlformats.org/officeDocument/2006/relationships/slide" Target="slide38.xml"/><Relationship Id="rId26" Type="http://schemas.openxmlformats.org/officeDocument/2006/relationships/slide" Target="slide48.xml"/><Relationship Id="rId27" Type="http://schemas.openxmlformats.org/officeDocument/2006/relationships/slide" Target="slide58.xml"/><Relationship Id="rId28" Type="http://schemas.openxmlformats.org/officeDocument/2006/relationships/slide" Target="slide30.xml"/><Relationship Id="rId29" Type="http://schemas.openxmlformats.org/officeDocument/2006/relationships/slide" Target="slide40.xml"/><Relationship Id="rId30" Type="http://schemas.openxmlformats.org/officeDocument/2006/relationships/slide" Target="slide50.xml"/><Relationship Id="rId31" Type="http://schemas.openxmlformats.org/officeDocument/2006/relationships/slide" Target="slide60.xml"/><Relationship Id="rId32" Type="http://schemas.openxmlformats.org/officeDocument/2006/relationships/slide" Target="slide32.xml"/><Relationship Id="rId33" Type="http://schemas.openxmlformats.org/officeDocument/2006/relationships/slide" Target="slide42.xml"/><Relationship Id="rId34" Type="http://schemas.openxmlformats.org/officeDocument/2006/relationships/slide" Target="slide52.xml"/><Relationship Id="rId35" Type="http://schemas.openxmlformats.org/officeDocument/2006/relationships/slide" Target="slide62.xml"/><Relationship Id="rId36" Type="http://schemas.openxmlformats.org/officeDocument/2006/relationships/slide" Target="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is what we call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a story that 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cannot be real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85800" y="1523880"/>
            <a:ext cx="784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make-believe or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fantasy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85800" y="1523880"/>
            <a:ext cx="784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09480" y="1447920"/>
            <a:ext cx="7848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is is what you may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find at the end of a book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at will give you the 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meaning of words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0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at is a glossary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09480" y="14479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762120" y="914400"/>
            <a:ext cx="7191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9933"/>
                </a:solidFill>
                <a:latin typeface="Times New Roman"/>
              </a:rPr>
              <a:t>The answer to an addition problem.</a:t>
            </a:r>
            <a:endParaRPr b="1" lang="en-US" sz="49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2057400"/>
            <a:ext cx="7924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33520" y="205740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the sum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" y="685800"/>
            <a:ext cx="769608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9933"/>
                </a:solidFill>
                <a:latin typeface="Times New Roman"/>
              </a:rPr>
              <a:t>A graph that uses pictures to represent information.</a:t>
            </a:r>
            <a:endParaRPr b="1" lang="en-US" sz="5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a pictograph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5800" y="19051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09480" y="8380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number has 5 tens and 4 on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54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3520" y="838080"/>
            <a:ext cx="8001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The answer to a subtraction problem.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6002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differen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04920" y="838080"/>
            <a:ext cx="80769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9933"/>
                </a:solidFill>
                <a:latin typeface="Times New Roman"/>
              </a:rPr>
              <a:t>2, 4, 6, 8, and 10 are examples of these.</a:t>
            </a:r>
            <a:endParaRPr b="1" lang="en-US" sz="59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33520" y="19051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even number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09480" y="762120"/>
            <a:ext cx="7925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The state that you live in.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17524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Illinoi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3520" y="609480"/>
            <a:ext cx="8001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9933"/>
                </a:solidFill>
                <a:latin typeface="Times New Roman"/>
              </a:rPr>
              <a:t>A place where people live, work, and play.</a:t>
            </a:r>
            <a:endParaRPr b="1" lang="en-US" sz="5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09480" y="13716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communit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33520" y="1447920"/>
            <a:ext cx="79246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9933"/>
                </a:solidFill>
                <a:latin typeface="Times New Roman"/>
              </a:rPr>
              <a:t>The country that you live in.</a:t>
            </a:r>
            <a:endParaRPr b="1" lang="en-US" sz="5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09480" y="1447920"/>
            <a:ext cx="792504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the United States of America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3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ead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4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Math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6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otpourri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7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cience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8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Writ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33"/>
                </a:solidFill>
                <a:latin typeface="Times New Roman"/>
              </a:rPr>
              <a:t>&amp; Stuff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6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7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38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39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0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1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2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3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4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5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6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47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48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49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0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1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2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53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0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AutoShape 54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1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AutoShape 55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2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AutoShape 56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3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AutoShape 57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4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AutoShape 58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5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AutoShape 60">
            <a:hlinkClick r:id="rId36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ocial 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tudies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457200" y="6094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When you read a map, you use these to understand what the symbols mean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33520" y="17524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map ke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57200" y="609480"/>
            <a:ext cx="8077320" cy="24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9933"/>
                </a:solidFill>
                <a:latin typeface="Times New Roman"/>
              </a:rPr>
              <a:t>Some things that you might see here are tractors, fields, and barns.</a:t>
            </a:r>
            <a:endParaRPr b="1" lang="en-US" sz="51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17524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farming communit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" action="ppaction://hlinkshowjump?jump=nextslide"/>
          </p:cNvPr>
          <p:cNvSpPr/>
          <p:nvPr/>
        </p:nvSpPr>
        <p:spPr>
          <a:xfrm>
            <a:off x="0" y="-15228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09480" y="1447920"/>
            <a:ext cx="7848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9933"/>
                </a:solidFill>
                <a:latin typeface="Times New Roman"/>
              </a:rPr>
              <a:t>Mrs. Loftus’s favorite word.</a:t>
            </a:r>
            <a:endParaRPr b="1" lang="en-US" sz="49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09480" y="14479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Arial"/>
              </a:rPr>
              <a:t>What is “please”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57200" y="9144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e answer to this question is 7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57200" y="1600200"/>
            <a:ext cx="7848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9933"/>
                </a:solidFill>
                <a:latin typeface="Times New Roman"/>
              </a:rPr>
              <a:t>What is how many days are there in one week?</a:t>
            </a:r>
            <a:endParaRPr b="1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762120"/>
            <a:ext cx="7620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9933"/>
                </a:solidFill>
                <a:latin typeface="Times New Roman"/>
              </a:rPr>
              <a:t>The first day of the week.</a:t>
            </a:r>
            <a:endParaRPr b="1" lang="en-US" sz="5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62120" y="12952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Sunda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85800" y="106668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person wrote the story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33520" y="19810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e number of months in one year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>
            <a:hlinkClick r:id="rId1" action="ppaction://hlinksldjump"/>
          </p:cNvPr>
          <p:cNvSpPr/>
          <p:nvPr/>
        </p:nvSpPr>
        <p:spPr>
          <a:xfrm>
            <a:off x="0" y="30492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12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57200" y="990720"/>
            <a:ext cx="79246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9933"/>
                </a:solidFill>
                <a:latin typeface="Times New Roman"/>
              </a:rPr>
              <a:t>This holiday celebrates a famous African American who fought for equal treatment of all people.</a:t>
            </a:r>
            <a:endParaRPr b="1" lang="en-US" sz="5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09480" y="160020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Martin Luther King Jr.’s birthda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You will find cactus and sand and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very little water here.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8580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deser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533520" y="609480"/>
            <a:ext cx="80769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9933"/>
                </a:solidFill>
                <a:latin typeface="Times New Roman"/>
              </a:rPr>
              <a:t>These animals have live babies and feed their babies milk.</a:t>
            </a:r>
            <a:endParaRPr b="1" lang="en-US" sz="49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3520" y="137160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mammal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85800" y="990720"/>
            <a:ext cx="78487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9933"/>
                </a:solidFill>
                <a:latin typeface="Times New Roman"/>
              </a:rPr>
              <a:t>Winter, Spring, Summer,</a:t>
            </a:r>
            <a:endParaRPr b="1" lang="en-US" sz="47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9933"/>
                </a:solidFill>
                <a:latin typeface="Times New Roman"/>
              </a:rPr>
              <a:t>and Fall</a:t>
            </a:r>
            <a:endParaRPr b="1" lang="en-US" sz="4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85800" y="16002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the 4 seas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an author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2133720"/>
            <a:ext cx="7543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09480" y="1371600"/>
            <a:ext cx="7848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Times New Roman"/>
              </a:rPr>
              <a:t>Fruits, vegetables, protein, breads, and fats</a:t>
            </a:r>
            <a:endParaRPr b="1" lang="en-US" sz="53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13716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the five food group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33520" y="762120"/>
            <a:ext cx="7772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9933"/>
                </a:solidFill>
                <a:latin typeface="Times New Roman"/>
              </a:rPr>
              <a:t>This is a measurement of how hot or cold it is outside?</a:t>
            </a:r>
            <a:endParaRPr b="1" lang="en-US" sz="3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09480" y="1295280"/>
            <a:ext cx="79250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9933"/>
                </a:solidFill>
                <a:latin typeface="Times New Roman"/>
              </a:rPr>
              <a:t>What is the temperature?</a:t>
            </a:r>
            <a:endParaRPr b="1" lang="en-US" sz="4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Times New Roman"/>
              </a:rPr>
              <a:t>These show that someone </a:t>
            </a:r>
            <a:endParaRPr b="1" lang="en-US" sz="53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Times New Roman"/>
              </a:rPr>
              <a:t>is speaking.</a:t>
            </a:r>
            <a:endParaRPr b="1" lang="en-US" sz="53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09480" y="12952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quotation mark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685800" y="990720"/>
            <a:ext cx="75438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9933"/>
                </a:solidFill>
                <a:latin typeface="Times New Roman"/>
              </a:rPr>
              <a:t>You need this at the beginning of every sentence.</a:t>
            </a:r>
            <a:endParaRPr b="1" lang="en-US" sz="5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762120" y="1752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capital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09480" y="1447920"/>
            <a:ext cx="7772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People, places, animals, and things 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0948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ou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1600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4320" y="1600200"/>
            <a:ext cx="706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person drew the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pictures in the story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685800" y="1447920"/>
            <a:ext cx="7620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These are made up of two words.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62120" y="1447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ontracti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09480" y="18288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You may write these to friends and famil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09480" y="1828800"/>
            <a:ext cx="8077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9933"/>
                </a:solidFill>
                <a:latin typeface="Times New Roman"/>
              </a:rPr>
              <a:t>What are letters?</a:t>
            </a:r>
            <a:endParaRPr b="1" lang="en-US" sz="5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2">
            <a:hlinkClick r:id="rId1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85800" y="914400"/>
            <a:ext cx="784872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9933"/>
                </a:solidFill>
                <a:latin typeface="Times New Roman"/>
              </a:rPr>
              <a:t>These are created to make sure that everyone is safe and treated fairly.</a:t>
            </a:r>
            <a:endParaRPr b="1" lang="en-US" sz="51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0000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685800" y="137160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rul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1600200"/>
            <a:ext cx="74674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an illustrator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is is what the 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story is all about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85800" y="182880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18288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main ide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Loftus</cp:lastModifiedBy>
  <dcterms:modified xsi:type="dcterms:W3CDTF">2010-01-30T21:57:26Z</dcterms:modified>
  <cp:revision>134</cp:revision>
  <dc:subject/>
  <dc:title>No Slide Title</dc:title>
</cp:coreProperties>
</file>